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FC50-AF55-4A86-B0E7-5BDC967C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47E4-DE70-4C4B-AC7A-9665F31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5198-9840-483F-8749-1B2AB28D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C23B-B952-4E56-BC50-9AF506CB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D33E-A367-4E79-87F4-C7123DAE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264-7F96-469A-B900-A1F97D91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07B4-D002-406E-954D-8E24344E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430E-8B07-40EA-8DE8-BE3B25A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DFA3-FCC0-4E09-BD01-DFB7DF41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DB06-25B0-462B-977B-55D3758A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D92C-9EAB-4623-A077-E79A426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4A61-0531-43C4-AB46-96221DE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EE7-86DF-4727-9249-BEBB27E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8FA8-2572-4C4B-A63E-0B12E05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F768-0351-44F4-A025-00603394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18DE-0449-4A70-9530-6AC26531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E26D-8A05-40FF-983F-5185B7B6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EC00-35F5-4041-AF0D-F5FB46D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5764-E8BA-444A-BC0B-3D87F09D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DEAF-E0CB-4374-AB0F-6A74537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E40C-B836-4B42-B048-03CABBA0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70C3-5340-45DA-BA48-853C326B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322C-5178-454B-9EDD-09E80B7C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90D1-8D6C-4156-9ECE-0009B66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55FA-216B-4FA0-9FC9-BDA56A463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ic Just – dictyBase – Northwestern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55E6-DD41-4622-9949-24B2009C9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Porting CHADO and GMOD Tools to Oracle and Integration with dictyBas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ctyba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00200" y="3505320"/>
            <a:ext cx="61722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database abstrac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2133720"/>
            <a:ext cx="259092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middlewar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8195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21337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648320"/>
            <a:ext cx="1828800" cy="129528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038480" y="407016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11760" y="408312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F59A-82B0-42DB-81DA-D400E6E72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600200" y="3505320"/>
            <a:ext cx="30481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28195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21337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505320"/>
            <a:ext cx="29718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::DBI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81952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9244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71500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8828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2144880"/>
            <a:ext cx="137160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4CE0-276E-44C3-AFA3-94D9178B0D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ctyBase Obje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ieve, insert, update, dele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ignorant of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esentation in data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ed with lazy evaluation most ac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– 80% unit tes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6E25-8DA2-45B0-A3A8-A1EE3A966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BioPer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 to represent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Features to represent transcript and alignment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power of BioPerl for sequence tasks, fi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BioPerl only used for sequence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F566-9D0D-4235-B2AD-AC70D11D8E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05280" y="175248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62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680" y="4572000"/>
            <a:ext cx="19051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6208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908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05080" y="4572000"/>
            <a:ext cx="260496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00360" y="3886200"/>
            <a:ext cx="0" cy="657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1960" y="3276720"/>
            <a:ext cx="2057400" cy="91440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48280" y="4572000"/>
            <a:ext cx="198108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39000" y="4266720"/>
            <a:ext cx="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82000" y="3276720"/>
            <a:ext cx="175248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86560" y="457200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09640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9720" y="1828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1800" y="3352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45320" y="3352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0800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61200" y="3352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67280" y="365760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Feature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Alignment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00640" y="2295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62080" y="2895480"/>
            <a:ext cx="69343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14760" y="2438280"/>
            <a:ext cx="7920" cy="4460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6208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0036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90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964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76720" y="472428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::Transcri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446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40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14800" y="4724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96" idx="2"/>
            <a:endCxn id="605" idx="2"/>
          </p:cNvCxnSpPr>
          <p:nvPr/>
        </p:nvCxnSpPr>
        <p:spPr>
          <a:xfrm flipH="1" rot="16200000">
            <a:off x="4647600" y="1673640"/>
            <a:ext cx="2160" cy="6896880"/>
          </a:xfrm>
          <a:prstGeom prst="bentConnector3">
            <a:avLst>
              <a:gd name="adj1" fmla="val 614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599" idx="2"/>
            <a:endCxn id="605" idx="2"/>
          </p:cNvCxnSpPr>
          <p:nvPr/>
        </p:nvCxnSpPr>
        <p:spPr>
          <a:xfrm flipH="1" rot="16200000">
            <a:off x="5850720" y="2877840"/>
            <a:ext cx="2160" cy="4488840"/>
          </a:xfrm>
          <a:prstGeom prst="bentConnector3">
            <a:avLst>
              <a:gd name="adj1" fmla="val 429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6" name=""/>
          <p:cNvCxnSpPr/>
          <p:nvPr/>
        </p:nvCxnSpPr>
        <p:spPr>
          <a:xfrm flipH="1" rot="16200000">
            <a:off x="7065720" y="4077360"/>
            <a:ext cx="2160" cy="2057760"/>
          </a:xfrm>
          <a:prstGeom prst="bentConnector3">
            <a:avLst>
              <a:gd name="adj1" fmla="val 28400000"/>
            </a:avLst>
          </a:prstGeom>
          <a:ln w="31680">
            <a:solidFill>
              <a:srgbClr val="ffffff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6584-A326-4BBE-AEB8-C2DFDB641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ject use case: Add an Exon, dbxref,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#!pe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use dicty::Fe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transcript = new dicty::Feature( -feature_no =&gt; 21842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description( ‘Gene model derived from 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add_external_id( -source =&gt; ‘GenBank Accession Number'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id     =&gt; '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 = $transcript-&gt;bioper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[$bioperl-&gt;exons()]-&gt;[2]-&gt;start( 28105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exon = Bio::SeqFeature::Gene::Exon-&gt;new(    -start  =&gt; 280921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end    =&gt; 280959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strand =&gt; -1  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exon-&gt;is_coding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-&gt;add_exon($ex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7F1F-BC12-4F61-8209-EF5591C37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Apol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laptop"/>
          <p:cNvSpPr/>
          <p:nvPr/>
        </p:nvSpPr>
        <p:spPr>
          <a:xfrm>
            <a:off x="7308720" y="2170080"/>
            <a:ext cx="1352520" cy="1143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61960" y="2169720"/>
            <a:ext cx="51300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517760" y="3008160"/>
            <a:ext cx="57909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2240" y="4227480"/>
            <a:ext cx="57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segment through SOAP message over 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17400" y="2279520"/>
            <a:ext cx="507960" cy="1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51520" y="2246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6775200" y="2322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2240" y="460836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layer generates GenBank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4400" y="5370480"/>
            <a:ext cx="63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, in Apollo send changed gene models back via 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11960" y="5791320"/>
            <a:ext cx="60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or changes gene models and updates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4075200"/>
            <a:ext cx="7621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2120" y="217008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07920" y="323676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55640" y="3236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Cloud"/>
          <p:cNvSpPr/>
          <p:nvPr/>
        </p:nvSpPr>
        <p:spPr>
          <a:xfrm>
            <a:off x="3498840" y="1560600"/>
            <a:ext cx="167652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3040" y="5000760"/>
            <a:ext cx="42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GenBank File via S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13640" y="2324160"/>
            <a:ext cx="789120" cy="436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 rot="1219800">
            <a:off x="3809520" y="1752480"/>
            <a:ext cx="1295640" cy="668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954B-E5DE-4491-88CB-3A5ECD1019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Curation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and Feature curation had to be re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centric’ c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more evidenc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classes that manipulate Objec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F888-BAD4-404B-A4FC-909AE96315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ere Are We Go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 the flexibility – New Feature Types, feature relations, and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back to GM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ly port different areas in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and testing ground for database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CB81-2474-4656-8729-BE91C160D6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895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x Chisholm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ren Kibbe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hel Merch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tra F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cale Gaudet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ren Pil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informatics Core at Northwes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1447920"/>
            <a:ext cx="3353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H (NIGMS and NHGR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FF9C-6495-4D57-B388-7F22937D8E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Base based on S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flexibility in featur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use CHADO for feature data, but ‘dicty’ SGD schema for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’ SGD (Oracle) needs to link 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80D7-75AF-4F92-8007-46C3182DA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ema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airy did most of this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tweak Oracle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name limited to 30 characters, systematically truncat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/primary keys on CLOBs (text) not allowed, changed to varchar2(4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’ reserved name in Oracle, changed name to ‘SYNONYM _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F362-ED9E-4378-B26B-726BBCF122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::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::DBI provides nice ‘table level’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llow references WITHOUT WRITING 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tool for 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ships with Class::DBI configured for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to fix/customize Oracl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92F3-AF28-425F-85A8-15C9BDA0C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which loads Class::DBI classes for ea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class name Chado::Synonym but call set_up_table( ‘synonym_’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‘residues’ a ‘lazy’ column of Chado::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ignificant porting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8138-A2AF-4A72-8EC1-3D400EAE2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286000"/>
            <a:ext cx="838440" cy="129528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2666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362320"/>
            <a:ext cx="9907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990360" cy="121932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9800" y="495288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 chromosome sequences and locations in 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52480" y="3505320"/>
            <a:ext cx="5791320" cy="914400"/>
            <a:chOff x="1752480" y="3505320"/>
            <a:chExt cx="5791320" cy="914400"/>
          </a:xfrm>
        </p:grpSpPr>
        <p:sp>
          <p:nvSpPr>
            <p:cNvPr id="536" name=""/>
            <p:cNvSpPr/>
            <p:nvPr/>
          </p:nvSpPr>
          <p:spPr>
            <a:xfrm>
              <a:off x="2209680" y="3505320"/>
              <a:ext cx="4876920" cy="76176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581280"/>
              <a:ext cx="53341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657600"/>
              <a:ext cx="57913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7640" y="533412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GFF3 into CHADO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10160" y="5715000"/>
            <a:ext cx="57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ferences to features with new tables and 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21560" y="2819520"/>
            <a:ext cx="7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8744-CBD4-4967-9589-6B1659B66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22240" y="14079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ws’ method does not exist in Oracle DBI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905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2666880"/>
            <a:ext cx="739116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rows_returned = @{$sth-&gt;fetchall_arrayref()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execute or Bio::Root::Root-&gt;thr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 $rows_returned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905120"/>
            <a:ext cx="7315200" cy="30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$sth-&gt;rows() 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3886200"/>
            <a:ext cx="78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fetchrow_hashref() is case sen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343400"/>
            <a:ext cx="73152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)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5181480"/>
            <a:ext cx="73915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"NAME_lc"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36232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483408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E741-4158-4145-8FB9-920A3EE43C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 - Qu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584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using (feature_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on f.feature_id = fl.feature_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520" y="1219320"/>
            <a:ext cx="83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does not like anything in a ‘using’ clause to also be in the ‘where’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19520"/>
            <a:ext cx="762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572000"/>
            <a:ext cx="80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ring’ becomes ‘subst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SQL containing synonym table must be mod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procedural SQL must be reproduced, in some cases this can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8563-E076-46B5-A67D-038264923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is_deleted flag to featur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some audit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audit table and trig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Indexes Heuri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hints to some difficult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2130-0B00-4280-8963-6D1DCFC23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9:44Z</dcterms:created>
  <dc:creator>cgm</dc:creator>
  <dc:description/>
  <dc:language>en-US</dc:language>
  <cp:lastModifiedBy>eric</cp:lastModifiedBy>
  <dcterms:modified xsi:type="dcterms:W3CDTF">2005-05-17T18:57:26Z</dcterms:modified>
  <cp:revision>63</cp:revision>
  <dc:subject/>
  <dc:title>Slide 1</dc:title>
</cp:coreProperties>
</file>